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4F3C-C81C-4E91-96E5-198D752B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" y="3898440"/>
            <a:ext cx="822024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C21-796F-48CD-8DF9-0EB28E17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560" y="389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8560" y="389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BB65-EBE8-4CEC-94DA-F9F798E5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6120" y="182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5320" y="182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560" y="389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6120" y="389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5320" y="389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0DCB-8F89-4F9A-BE40-E6C9CF7F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26A1-FFFF-4F83-944F-A344AD40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41A7-C933-4F09-A03E-A0C46E6F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D02D-890F-4194-9F6B-893FCFFC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4011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828440"/>
            <a:ext cx="4011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9949-0C17-4CED-B843-A03B64A6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D5E9-BBBD-460F-9F9F-14B46629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66560" y="22860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3AA5-C99C-43BE-BC15-EFE0FB9F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828440"/>
            <a:ext cx="4011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60" y="389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B2A4-F6A1-454A-A841-00C8BDBD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B4A8-5BD1-4608-95D8-86F227E2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4011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8560" y="389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264B-5375-4090-AB53-6370FFB8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60" y="3898440"/>
            <a:ext cx="822024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3D85-2491-48EA-9765-BF9A46DE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60" y="3898440"/>
            <a:ext cx="822024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B6D5-6BD2-4F47-A33D-0F657F9D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560" y="389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8560" y="389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72D3-F3B1-4952-90DE-CEBD9E5A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6120" y="182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5320" y="182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560" y="389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6120" y="389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5320" y="3898440"/>
            <a:ext cx="26467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426E-87F0-441F-A8C8-0A182A17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22F-270A-4EA2-929A-339E4215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4011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560" y="1828440"/>
            <a:ext cx="4011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A934-AB72-4622-A13D-CF611EE5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BAA-F925-48CB-BF5F-3CE13994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6560" y="22860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36C0-B605-49A2-B094-95D792DB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560" y="1828440"/>
            <a:ext cx="4011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60" y="389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28D6-FB8F-47B8-8698-175BBF37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4011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8560" y="389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950-71D1-4E87-9C66-E4FF16D9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828440"/>
            <a:ext cx="4011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3898440"/>
            <a:ext cx="822024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792-2671-4AD6-A41D-78F014D8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775040"/>
            <a:ext cx="9144000" cy="20829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108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0e2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371600" y="6297120"/>
            <a:ext cx="144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F3CE-4294-4C68-967B-CA099194F86B}" type="datetime">
              <a:rPr b="0" lang="de-DE" sz="1200" spc="-1" strike="noStrike">
                <a:solidFill>
                  <a:srgbClr val="808080"/>
                </a:solidFill>
                <a:latin typeface="Times New Roman"/>
                <a:ea typeface="Osak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97120"/>
            <a:ext cx="2895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Times New Roman"/>
                <a:ea typeface="Osak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66200" y="6297120"/>
            <a:ext cx="83844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Times New Roman"/>
                <a:ea typeface="Osaka"/>
              </a:rPr>
              <a:t>Page </a:t>
            </a:r>
            <a:fld id="{1B9FD355-A393-459A-9CD7-FB3BF9837356}" type="slidenum">
              <a:rPr b="0" lang="de-DE" sz="1200" spc="-1" strike="noStrike">
                <a:solidFill>
                  <a:srgbClr val="80808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7086600" y="5943600"/>
          <a:ext cx="1747800" cy="75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86600" y="5943600"/>
                    <a:ext cx="1747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4038480" y="1447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4475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0F15-7C83-43D2-B218-CF22B3D08D4E}" type="datetime">
              <a:rPr b="0" lang="de-DE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0912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AC3A-298A-4CBC-AEEA-D52D4AE0981C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095880" y="5373720"/>
          <a:ext cx="2721240" cy="11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5373720"/>
                    <a:ext cx="272124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50e2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atistik.at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874880"/>
            <a:ext cx="712152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50e20"/>
                </a:solidFill>
                <a:latin typeface="Arial"/>
              </a:rPr>
              <a:t>Ways to Access Firm-Level Data and the Issue of Confidentiality</a:t>
            </a:r>
            <a:endParaRPr b="1" lang="en-US" sz="36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601720" y="3141360"/>
            <a:ext cx="5346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9. FIW-Worksho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October 30, 200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49440" y="1125360"/>
            <a:ext cx="54990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f75"/>
                </a:solidFill>
                <a:latin typeface="Arial"/>
                <a:ea typeface="Times New Roman"/>
              </a:rPr>
              <a:t>Peter Hac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f75"/>
                </a:solidFill>
                <a:latin typeface="Arial"/>
                <a:ea typeface="Times New Roman"/>
              </a:rPr>
              <a:t>Statistics Aust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941440"/>
            <a:ext cx="1676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2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50e20"/>
                </a:solidFill>
                <a:latin typeface="Arial"/>
                <a:ea typeface="Osaka"/>
              </a:rPr>
              <a:t>www.statistik.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952880"/>
            <a:ext cx="3505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Service for Researchers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6560" y="1219320"/>
            <a:ext cx="619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easibility study for BM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s the implementation of standardized research-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b50e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50e20"/>
                </a:solidFill>
                <a:latin typeface="Arial"/>
              </a:rPr>
              <a:t>remote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b50e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50e20"/>
                </a:solidFill>
                <a:latin typeface="Arial"/>
              </a:rPr>
              <a:t>safe cent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dmap for next three yea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by the Ministry of Scie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 activ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ning the range of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opportunities for access to firm-leve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losure-contro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a web-based access to micro-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CD4-9A62-4764-895D-8874F88EC8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143000"/>
            <a:ext cx="9144000" cy="4008600"/>
          </a:xfrm>
          <a:prstGeom prst="rect">
            <a:avLst/>
          </a:prstGeom>
          <a:solidFill>
            <a:srgbClr val="1073a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1447920"/>
            <a:ext cx="6305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spcBef>
                <a:spcPts val="1500"/>
              </a:spcBef>
              <a:buClr>
                <a:srgbClr val="a0d4cd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a0d4cd"/>
                </a:solidFill>
                <a:latin typeface="Arial"/>
                <a:ea typeface="Osaka"/>
              </a:rPr>
              <a:t>The Service of </a:t>
            </a:r>
            <a:r>
              <a:rPr b="0" lang="en-US" sz="2400" spc="-1" strike="noStrike">
                <a:solidFill>
                  <a:srgbClr val="a0d4cd"/>
                </a:solidFill>
                <a:latin typeface="Arial"/>
                <a:ea typeface="Osaka"/>
              </a:rPr>
              <a:t>Statistics Austria for Researchers</a:t>
            </a:r>
            <a:r>
              <a:rPr b="0" lang="en-US" sz="2400" spc="-1" strike="noStrike">
                <a:solidFill>
                  <a:srgbClr val="a0d4cd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edbb05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bb05"/>
                </a:solidFill>
                <a:latin typeface="Arial"/>
              </a:rPr>
              <a:t>The Legal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The Federal Statistics</a:t>
            </a:r>
            <a:r>
              <a:rPr b="1" lang="en-US" sz="2400" spc="-1" strike="noStrike">
                <a:solidFill>
                  <a:srgbClr val="b50e2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Act 2000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6560" y="1219320"/>
            <a:ext cx="619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rticles of rele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31 Use of statistical data for scientific purpo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15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nonymis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ersonal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26 Other regist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5 Legitimacy of personal survey ord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4BA-969C-462B-B213-3C2016A002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Anonymisation and Research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6560" y="1219320"/>
            <a:ext cx="619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15 (1), Federal Statistics Act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collating personal data, all personal references shall be deleted immediately once they are no longer required for the reasons mentioned in Art. 5 (2) here above or for any other statistical survey ordered by regu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s to personal, household and company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31 (Use of statistical data for scientific purpos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may be provided to suitably qualified persons and scientific instit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scientific purpo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llowing approval of the use to which it will be pu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yment of an appropriate fee to cover co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ed in Art. 31 (3), Federal Statistics Act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use of personal statistical data for scientific purposes is prohib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CFE-734C-4ADC-BC48-82D619DA3B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Statistical Confidentiality</a:t>
            </a:r>
            <a:r>
              <a:rPr b="1" lang="en-US" sz="2400" spc="-1" strike="noStrike">
                <a:solidFill>
                  <a:srgbClr val="b50e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6560" y="1219320"/>
            <a:ext cx="619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50e20"/>
                </a:solidFill>
                <a:latin typeface="Arial"/>
              </a:rPr>
              <a:t>Guiding princi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Official Statis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Principles of Official Statistics, UN (1994), 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Statistics Code of Practice, Eurostat (2005), 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l Statistics Act, Art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dividual data collected by statistical agencies for statistical compilation, whether they refer to natural or legal persons, are to be strictly confidential and used exclusively for statistical purposes.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N Fundamental Principl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le official statistics depend on public co-operation and goodwill to provide accurate and timely information requested in surveys, need confidenti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dentiality guarantees </a:t>
            </a:r>
            <a:r>
              <a:rPr b="1" lang="en-US" sz="1800" spc="-1" strike="noStrike">
                <a:solidFill>
                  <a:srgbClr val="b50e20"/>
                </a:solidFill>
                <a:latin typeface="Arial"/>
              </a:rPr>
              <a:t>trust of respond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l Statistics Act, Art. 17 (4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confidentiality of statistics is an official secret within the meaning of article 3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G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3354-D483-4286-8302-7ACFEA0473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Anonymisation and</a:t>
            </a:r>
            <a:r>
              <a:rPr b="1" lang="en-US" sz="2400" spc="-1" strike="noStrike">
                <a:solidFill>
                  <a:srgbClr val="b50e2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Identification Risk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6560" y="1219320"/>
            <a:ext cx="619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-data of persons and househol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isation un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ly no identification risk, especially for sampl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m-level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isation possible for branches with homogeneous structure (size of staff, size of turnover, etc.) such as construction,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consult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tion risk similar to micro-data of persons and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 information might be cru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isation difficult for branches with dominating leading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56B-F8EC-49AC-BCA3-762E9350FD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742788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Merging Data from Different Surveys/Sources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6560" y="1219320"/>
            <a:ext cx="619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interesting empirical analyses are based on merged data-s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Merging on basis of personal identifiers generally is only permitted if foreseen in a legal a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15 and Art. 5 (2) Federal Statistics Act may enable me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ce: For a specific scientific research project, the lack of a legal basis for merging might prevent the merging of relevant data-s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An amendment of the Federal Statistics Act should al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pseudonyms for statistical units (which are not revertible for Statistics Aust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rging of these pseudonymised pers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175-E7E6-469E-A067-0E5C9B3518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71391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The Practice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1219320"/>
            <a:ext cx="619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 Austria always intended to co-operate with scientific research under this restrictive setting whenever possibl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expert opinion urges Statistics Austria to interpret Art. 15 and Art. 5 (2) Federal Statistics Act rather restrictive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ndment of Art. 15 and Art. 26 Federal Statistics Ac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llow using and merging pseudonymised persona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eudonyms: bPK-AS for persons, Unternehmenskennzahl for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 Austria co-initiated the change of Art. 15 and Art. 26 Federal Statistics 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399-7B2C-4814-BD62-3C50814010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71391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The Future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6560" y="1219320"/>
            <a:ext cx="799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f amendment enacted, research </a:t>
            </a:r>
            <a:r>
              <a:rPr b="0" lang="en-US" sz="2400" spc="-1" strike="noStrike">
                <a:solidFill>
                  <a:srgbClr val="009999"/>
                </a:solidFill>
                <a:latin typeface="Arial Unicode MS"/>
              </a:rPr>
              <a:t>servic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mplemented</a:t>
            </a:r>
            <a:r>
              <a:rPr b="0" lang="de-AT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 Austria will offer much more attractive anonymised (firm-level) datas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 Austria will of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isation needs for firm-leve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resources, in particular time of 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s that cover costs of Statistics Aust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 activ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ning the range of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access to firm-level data, advanced disclosure-contro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a internet-based access to micro-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1EDA-D80A-49AE-B9B3-7784C3D983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143000"/>
            <a:ext cx="9144000" cy="4008600"/>
          </a:xfrm>
          <a:prstGeom prst="rect">
            <a:avLst/>
          </a:prstGeom>
          <a:solidFill>
            <a:srgbClr val="1073a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447920"/>
            <a:ext cx="6305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Osaka"/>
              </a:rPr>
              <a:t>The Service 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Osaka"/>
              </a:rPr>
              <a:t>Statistics Austria for Researcher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egal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189000"/>
            <a:ext cx="67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Why Co-operation of Official Statistics with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1360" y="135900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765440"/>
            <a:ext cx="734364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of Official Statistics are a </a:t>
            </a:r>
            <a:r>
              <a:rPr b="1" lang="en-GB" sz="1800" spc="-1" strike="noStrike">
                <a:solidFill>
                  <a:srgbClr val="b50e20"/>
                </a:solidFill>
                <a:latin typeface="Arial"/>
              </a:rPr>
              <a:t>public goo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should be used as efficient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operation allows for results which may be beyond the possibilities of the National Statistical Organizations (N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operation opens </a:t>
            </a:r>
            <a:r>
              <a:rPr b="1" lang="en-GB" sz="1800" spc="-1" strike="noStrike">
                <a:solidFill>
                  <a:srgbClr val="b50e20"/>
                </a:solidFill>
                <a:latin typeface="Arial"/>
              </a:rPr>
              <a:t>research are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operation makes scientists familiar with Official Statistics and the 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operation creates trust in the NSO by the public, contributes to a better image of the 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F8F-A6B6-47E1-894A-074DE96B76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Access to Micro-Data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6560" y="12193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ns research areas for sci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</a:t>
            </a:r>
            <a:r>
              <a:rPr b="1" lang="en-US" sz="1800" spc="-1" strike="noStrike">
                <a:solidFill>
                  <a:srgbClr val="b50e20"/>
                </a:solidFill>
                <a:latin typeface="Arial"/>
              </a:rPr>
              <a:t>policy analy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assessing the effectiveness of governmental program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Official Statistics with feed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s </a:t>
            </a:r>
            <a:r>
              <a:rPr b="1" lang="en-US" sz="1800" spc="-1" strike="noStrike">
                <a:solidFill>
                  <a:srgbClr val="b50e20"/>
                </a:solidFill>
                <a:latin typeface="Arial"/>
              </a:rPr>
              <a:t>quality of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statistical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D777-B743-4334-B6BA-2E3B4C6E21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1600"/>
            <a:ext cx="656280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The Website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“Mikrodaten für Forschung und Lehre”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560" y="12193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onymised micro-dat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ed data sets (SDS) an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cro-data files tailored to the needs of the researcher (AD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S: Samples from surveys li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50e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50e20"/>
                </a:solidFill>
                <a:latin typeface="Arial"/>
              </a:rPr>
              <a:t>Microcensus, LF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2000 –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umer survey 2004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50e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50e20"/>
                </a:solidFill>
                <a:latin typeface="Arial"/>
              </a:rPr>
              <a:t>EU-SILC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2003 –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gratio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50e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50e20"/>
                </a:solidFill>
                <a:latin typeface="Arial"/>
              </a:rPr>
              <a:t>Wage ta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2005 – 2007), Income tax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ible via internet (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tatistik.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 access for everybody after regist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istration: ID, affiliation, email address, intended re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FB78-8B16-495A-9CF4-79DE37A62E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Micro-data Portfolio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6560" y="1219320"/>
            <a:ext cx="69138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1073af"/>
                </a:solidFill>
                <a:latin typeface="Arial"/>
              </a:rPr>
              <a:t>Number (#) of offered 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78160" y="2276640"/>
          <a:ext cx="3814920" cy="212868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Academic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# of Statistical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# of S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fe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006/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d4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007/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d4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008/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d4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FFAB-3D27-4234-BBA5-18AA0DFA64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Demand for Micro-data 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6560" y="4220640"/>
            <a:ext cx="74901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2006: 180 downloads; 63 in 2008/09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ing use in academic </a:t>
            </a:r>
            <a:r>
              <a:rPr b="1" lang="en-GB" sz="1800" spc="-1" strike="noStrike">
                <a:solidFill>
                  <a:srgbClr val="b50e20"/>
                </a:solidFill>
                <a:latin typeface="Arial"/>
              </a:rPr>
              <a:t>teach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; courses in sociology, economics, statistical computing, a.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50e20"/>
                </a:solidFill>
                <a:latin typeface="Arial"/>
              </a:rPr>
              <a:t>Publication platfor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2 scientific papers, 2 students theses, 3 articles and 7 presentations related to co-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6560" y="12193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1073af"/>
                </a:solidFill>
                <a:latin typeface="Arial"/>
              </a:rPr>
              <a:t>In the academic year 2008/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778200" y="1733400"/>
          <a:ext cx="3457800" cy="2200320"/>
        </p:xfrm>
        <a:graphic>
          <a:graphicData uri="http://schemas.openxmlformats.org/drawingml/2006/table">
            <a:tbl>
              <a:tblPr/>
              <a:tblGrid>
                <a:gridCol w="2666880"/>
                <a:gridCol w="79092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Use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fec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Academic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d4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Non-academic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d4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Student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d4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Teach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d4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Unknow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d4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bb0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C82-28CD-4F4B-82FB-0E44ECF003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Research Co-operations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6560" y="12193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50e20"/>
                </a:solidFill>
                <a:latin typeface="Arial"/>
              </a:rPr>
              <a:t>NPO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ner: Department for Social Policy of the W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ion of the business register wrt NPOs based on tax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vey of NPOs: size, activities, govern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stics Austria: improvement of the S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artment for Social Policy: various research projects wrt N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B94-D186-49C2-91C7-E99EBA37D5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Research Co-operations II</a:t>
            </a:r>
            <a:endParaRPr b="1" lang="en-US" sz="2800" spc="-1" strike="noStrike">
              <a:solidFill>
                <a:srgbClr val="b50e2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6560" y="12193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6560" y="1828440"/>
            <a:ext cx="8220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50e20"/>
                </a:solidFill>
                <a:latin typeface="Arial"/>
              </a:rPr>
              <a:t>Micro-dy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Competitiveness of Firms, Regions and Industries in the Knowledge Based Econo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-Project, 2006 to 2010, 17 partn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or: wiiw (Wiener Institut für Internationale Wirtschaftsvergleich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that combine data from micro- and macro-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73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 Austria: provision of data, remote comput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rojects deal with </a:t>
            </a:r>
            <a:r>
              <a:rPr b="1" lang="en-US" sz="1800" spc="-1" strike="noStrike">
                <a:solidFill>
                  <a:srgbClr val="b50e20"/>
                </a:solidFill>
                <a:latin typeface="Arial"/>
              </a:rPr>
              <a:t>income 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b50e20"/>
                </a:solidFill>
                <a:latin typeface="Arial"/>
              </a:rPr>
              <a:t>profitability of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terminants of </a:t>
            </a:r>
            <a:r>
              <a:rPr b="1" lang="en-US" sz="1800" spc="-1" strike="noStrike">
                <a:solidFill>
                  <a:srgbClr val="b50e20"/>
                </a:solidFill>
                <a:latin typeface="Arial"/>
              </a:rPr>
              <a:t>business suc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Hack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074-8044-459F-B8C0-1F1587A93F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7:44:30Z</dcterms:created>
  <dc:creator>ARTE GRAFICA</dc:creator>
  <dc:description/>
  <dc:language>en-US</dc:language>
  <cp:lastModifiedBy>PHACKL$</cp:lastModifiedBy>
  <dcterms:modified xsi:type="dcterms:W3CDTF">2009-10-30T06:11:32Z</dcterms:modified>
  <cp:revision>153</cp:revision>
  <dc:subject/>
  <dc:title>PowerPoint-Präsentation</dc:title>
</cp:coreProperties>
</file>