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2B16-6703-42E8-B3EF-4E26040D37A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A2A-624C-49C5-8B8A-DDCD708FAC5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6BE7-CD21-480C-AD12-13ABF1AC580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351-9E13-444D-B5DD-CA7B169E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8F9-0FB9-47D1-9941-910DDEC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AC2-A6F9-48FF-9CFB-687E582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5AE-3F2E-4D31-AB8D-9711ADE3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C610-6022-4228-9F27-EB1D5D79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0A9A-E1E4-43E3-89B7-524CF6D6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707-2149-4790-8FD8-60634B7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6992-557E-4EF6-97AE-171ECCC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148A-FC15-45E2-9E7D-B1891E66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5C66-52DB-4481-9693-2A439AA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2C09-1A29-40A5-B5D9-2F0C2A6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1BF-C3D7-431D-90DD-ADD2FD8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6FE-898C-4E16-B8AE-E3DDCEE5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6C9-35F9-461A-924B-3E00098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805-0EC9-4FE6-988E-5A3F5448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D29-5BA4-4D91-916A-7AF414CB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4B5-99FA-4BD3-9982-BE52D870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829B-24E1-462F-AE3D-5E20329E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CD0D-DD2B-417E-A8CC-DB5BD80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1438-D4C0-4719-8EAA-820C8F3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240A-B055-41BD-9D60-D9D63D7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C38A-3811-4271-B948-2CD0832D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4D8-10F3-4D00-84DC-0877ACE9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7A83-4A63-436D-9550-9D1C070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1677-6F17-4C45-90F5-844049F9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0699-7A0F-46DD-B812-04FED94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1F51-914F-47E3-A61A-02EB7FD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1F52-2E19-4B46-84C5-97200E4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E8CD-A34E-41A1-B920-1851E45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8409-5B88-4EA9-B0AB-520F72D6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50D4-347B-47EB-ADE1-2675EDBA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8904-5F3F-4F2D-99FA-F564C3E7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765D-F529-4A7B-BAD7-BD932E0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6AB-F0D9-4A12-8A1D-27E75022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F9F7-E98A-45D5-8494-9FBDC48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F225-EDF8-4495-9285-048E72C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732C-0CF8-4B6E-A55A-5ED09E28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E613-17A3-4F77-94EF-0C18F13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3A1F-9A58-4E0F-89F1-6A84234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7A88-818A-494E-8334-EA01938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A31A-8236-41A6-95E7-2B28AB10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D65F-8149-431A-B4BF-96F7156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9236-420C-4D5B-987E-2B02E1E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825-EB81-47C0-A594-86E7349F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09-12F7-4262-AE56-AC9564B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B6B-B3C1-45F2-A4C2-23E0182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750-1764-44C9-8546-7DD0E31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7E9-C860-487A-ACBB-3E71A06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4D0B-C3D4-4736-B3F0-CC8447CBAC88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760-4291-4289-A45C-F3397AC455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A8E-F133-4172-9B53-4F1DA6B1A61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760-C4F2-465E-8B60-2071940340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E2B-DA7D-47F2-8784-17FDD7D12A8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032-4710-4976-88DB-3B2ED12233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3BC6-506A-4F82-8733-D2423198859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38E-0DEF-4553-A8B0-9C548DB2DD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530280"/>
            <a:ext cx="7864560" cy="2298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855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Harald </a:t>
            </a: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Bading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alibri"/>
              </a:rPr>
              <a:t>Vienna University of Economics and Busines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Kemal Türkc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alibri"/>
              </a:rPr>
              <a:t>Akdeniz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5th FIW Research Conference “International Economics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April 13th, 201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Vienn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erall market share of country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’s exports relative to the ROW’s exports to country j is given by the product of EM and I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hese calculations are also carried out for intermediate and final goods, as well as for 93 HS-2 chap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2666880" y="3352680"/>
                <a:ext cx="3429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gional composition of the euro area exports reveals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uro area exports have increased for all destination regions since 1999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bu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crease in intra-euro and intra-EU exports was more pronounc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act of the euro on the exports appears to kick in 1999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imilar development ca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ls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observed for final and intermediate goo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Başlık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85200" cy="1384200"/>
          </a:xfrm>
          <a:prstGeom prst="rect">
            <a:avLst/>
          </a:prstGeom>
          <a:ln w="0">
            <a:noFill/>
          </a:ln>
        </p:spPr>
      </p:pic>
      <p:sp>
        <p:nvSpPr>
          <p:cNvPr id="249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3 Grafik" descr=""/>
          <p:cNvPicPr/>
          <p:nvPr/>
        </p:nvPicPr>
        <p:blipFill>
          <a:blip r:embed="rId2"/>
          <a:stretch/>
        </p:blipFill>
        <p:spPr>
          <a:xfrm>
            <a:off x="682560" y="2206800"/>
            <a:ext cx="7553520" cy="42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the euro area’s EM  and IM indicate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he euro-11’s intra-euro and intra-EU exports are much higher than those for other reg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of 1999 for all destination region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lative increas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f 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whole period for extra-euro area exports is even larg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mained stable or increased only slightly during the sample period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important for intra-euro and intra-EU reg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rowth of euro area exports has mainly driven by 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oth EM and IM of final goods are greater than those of intermediate goo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wide variations in both EM and IM across euro area countries: Italy has the highest EM wheras Germany the highest 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plays a more prominent role for large count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1 Başlık" descr=""/>
          <p:cNvPicPr/>
          <p:nvPr/>
        </p:nvPicPr>
        <p:blipFill>
          <a:blip r:embed="rId1"/>
          <a:stretch/>
        </p:blipFill>
        <p:spPr>
          <a:xfrm>
            <a:off x="285840" y="743040"/>
            <a:ext cx="8486640" cy="1171440"/>
          </a:xfrm>
          <a:prstGeom prst="rect">
            <a:avLst/>
          </a:prstGeom>
          <a:ln w="0">
            <a:noFill/>
          </a:ln>
        </p:spPr>
      </p:pic>
      <p:sp>
        <p:nvSpPr>
          <p:cNvPr id="264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4 Grafik" descr=""/>
          <p:cNvPicPr/>
          <p:nvPr/>
        </p:nvPicPr>
        <p:blipFill>
          <a:blip r:embed="rId2"/>
          <a:stretch/>
        </p:blipFill>
        <p:spPr>
          <a:xfrm>
            <a:off x="755640" y="2206800"/>
            <a:ext cx="74008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1 Başlık" descr=""/>
          <p:cNvPicPr/>
          <p:nvPr/>
        </p:nvPicPr>
        <p:blipFill>
          <a:blip r:embed="rId1"/>
          <a:stretch/>
        </p:blipFill>
        <p:spPr>
          <a:xfrm>
            <a:off x="285840" y="682560"/>
            <a:ext cx="8486640" cy="1384200"/>
          </a:xfrm>
          <a:prstGeom prst="rect">
            <a:avLst/>
          </a:prstGeom>
          <a:ln w="0">
            <a:noFill/>
          </a:ln>
        </p:spPr>
      </p:pic>
      <p:sp>
        <p:nvSpPr>
          <p:cNvPr id="267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5 Grafik" descr=""/>
          <p:cNvPicPr/>
          <p:nvPr/>
        </p:nvPicPr>
        <p:blipFill>
          <a:blip r:embed="rId2"/>
          <a:stretch/>
        </p:blipFill>
        <p:spPr>
          <a:xfrm>
            <a:off x="907920" y="2206800"/>
            <a:ext cx="7096320" cy="42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1143000"/>
          <a:ext cx="7696440" cy="5079960"/>
        </p:xfrm>
        <a:graphic>
          <a:graphicData uri="http://schemas.openxmlformats.org/drawingml/2006/table">
            <a:tbl>
              <a:tblPr/>
              <a:tblGrid>
                <a:gridCol w="1100160"/>
                <a:gridCol w="1098720"/>
                <a:gridCol w="1100160"/>
                <a:gridCol w="1098360"/>
                <a:gridCol w="1100160"/>
                <a:gridCol w="1098720"/>
                <a:gridCol w="1100160"/>
              </a:tblGrid>
              <a:tr h="6426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1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port margins of euro area countries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,total trade,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6-1998 and 2005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-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7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0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o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Model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estimate the trade effects of the euro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for EU-1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llowing gravity-type panel data mod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ide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ternative dependent variable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: exports, OV, EM and 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nclude time fixed effects, exporter fixed effects, and importer fixed effects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914400" y="2971800"/>
                <a:ext cx="769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η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β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Data Sour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880" y="178272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nual 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a on exports of the EU-15 member states to 197 importing countrie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S-6 (5111 item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for the period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96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7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2,082,404 annual bilateral observations, (5111 productsX197 importersX12 year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de data from the UN’s COMTRADE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tabas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a on GDP from WD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a on bilateral distance, contiguity, common languages and colonial relationships from the CEPII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surement of Export Marg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of Euro Area Cou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and the Euro: Gravity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ou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irical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and Elasticity of Substit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total trade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 of the euro on th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xpor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significant,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of the eur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significant at 1 and 10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spectively;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larger share (64 percent) of the total effect appears to have materialized throug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final and intermediate goods trade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ect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unts to 18 percent for final goods and 8 percent for intermediate good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ent with Flam and Nordström (2006b)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effect on EM for final and intermediate goods is insignificant, much smaller role of 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nclude that aggregation appears to mask important issues and need to a more disaggregated analysis of the euro effect on EM and IM of trad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1397160"/>
          <a:ext cx="6096240" cy="45399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2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es of the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rade effects of the eur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, EU-15, 199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7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8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4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89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timates based on unbalanced panel of bilateral exports from EU-15 countries to 179 trading partners over the period 1996-2007. All models include importer-, exporter-, and year-fixed effects. Robust standard errors in parenthesis. 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dicate significance at 10, 5, and 1 perc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"/>
              <p:cNvSpPr txBox="1"/>
              <p:nvPr/>
            </p:nvSpPr>
            <p:spPr>
              <a:xfrm>
                <a:off x="1676520" y="281952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1676520" y="3657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76520" y="449568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93 HS-2 chapters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 of the euro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n EM: 57 out of 93 coefficients are negative, in contrast wi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m and Nordström, 2006b; Berthou and Fontagne, 2008; but in line with Di Nino (2009) and Fontagne et al. (200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effect of the euro on IM: only 20 out of 93 coefficients are negat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uge variation in the estimated effects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striking and deserves discuss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62120" y="990720"/>
          <a:ext cx="7543800" cy="52560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3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ion results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S-2 chapters, EU-15, 199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eighted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8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19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5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r>
                        <a:rPr b="0" lang="tr-TR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3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7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3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coefficients (of 93 HS-2 chap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and Elasticity of Substit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ey (2008) derives the following hypothese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fixed trade costs increases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effect is smaller, the larger the elasticity of substitu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variable trade costs increases bot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rade, and the effect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smaller (larger), the larger the elasticity of substitu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o test these hypothesis, the following model is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590920" y="5334120"/>
                <a:ext cx="3962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Rectangle 9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and Elasticity of Substit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clude observations, wher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efficients of EM and I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re positive (and significant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ue to the conditions of the mod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ect th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lasticity of substitution have a positive effect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negative effect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sults of the effects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f the elasticity of substitu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V, EM and 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in line with the predictions of Chaney (2008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nclude th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ffect of a reduction in trade costs depends on the elasticity of substit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5800" y="1066680"/>
          <a:ext cx="7543800" cy="5408640"/>
        </p:xfrm>
        <a:graphic>
          <a:graphicData uri="http://schemas.openxmlformats.org/drawingml/2006/table">
            <a:tbl>
              <a:tblPr/>
              <a:tblGrid>
                <a:gridCol w="1355760"/>
                <a:gridCol w="1353960"/>
                <a:gridCol w="1355760"/>
                <a:gridCol w="1354320"/>
                <a:gridCol w="1355760"/>
                <a:gridCol w="768240"/>
              </a:tblGrid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4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ion results for 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the test of Chaney (2008)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 alternative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3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9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3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3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4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4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4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3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5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4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4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5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3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1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4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9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1"/>
              <p:cNvSpPr txBox="1"/>
              <p:nvPr/>
            </p:nvSpPr>
            <p:spPr>
              <a:xfrm>
                <a:off x="838080" y="25146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"/>
              <p:cNvSpPr txBox="1"/>
              <p:nvPr/>
            </p:nvSpPr>
            <p:spPr>
              <a:xfrm>
                <a:off x="838080" y="51055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838080" y="37339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2286000" y="5943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vity estimates for total, intermediate and final goods trade suggest that the euro has lead to an increase in exports by some 7 to 13 perc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disaggregated estimates for 93 HS-2 chapters point to a smaller effect of around 5 perc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arge elasticity of substitution dampens (amplifies) the effect of a trade cost reduction on the extensive (intensive) margi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ank you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irical studies on the impact of currency unions on trade have mushroomed since the seminal paper by Rose (2000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recently, induced by the introduction of the euro in 1999, the empirical literature on currency unions has shifted its focus towards the euro area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dence suggests that the euro has led to an increase in trade of the euro area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untries, such a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n and Klaassen (2002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am and Nordström (2006a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ew trade  theory (Melitz, 2003) suggests two main channels through which the euro might have affected tra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variable trade costs, causing an increase in bot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fixed trade costs (and thus market entry costs), causing an increase i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a related work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ey (2008) shows that the effects of a reduction in trade costs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and 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bilateral trade depends on the elasticity of substitu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esent paper reconsiders the trade effects of the euro and makes the following contribution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ng disaggregated data, decompose the EU-15 countries’ exports to 197 importing countries into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following Hummels and Klenow (2005)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imat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effects of the euro on the euro area countries’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 for total goo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l good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mediat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oo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est the predictions of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ey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2008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al empirical studies have investigated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act of the euro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using bilateral trade data at the product-level such a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ldwin and Di Nino (2006), Flam and Nordström (2006b)</a:t>
            </a: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using firm-level data such a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rthou and Fontagne (2008), de  Nardis et al. (2008)</a:t>
            </a: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e is substantial variation in the results both with respect to the magnitude of the effect and the relative role of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ased on the methodology of Hummels and Klenow (2005), decompose the euro area exports into EM and 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is defined as a weighted count of the categories in which a country exports relative to the categories exported by the rest of the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is defined as a country’s exports to world’s exports in a set of categories in which the country also expo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can be thought of as measure of export variety while IM as a measure of the trade volume of each varie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Using X to denote the quantity of exports and P to denote their unit price, EM of exports from country i to country j in period t is define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here L is the set of observable categories in which country i has positive exports to country j in period 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2514600" y="3048120"/>
                <a:ext cx="34290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is define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will be large if country i export many different categories  to country j while IM will be large if country i exports large amounts of a few categories l to  country j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90920" y="2514600"/>
                <a:ext cx="373356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0:50:04Z</dcterms:created>
  <dc:creator>MERIC KESKINEL</dc:creator>
  <dc:description/>
  <dc:language>en-US</dc:language>
  <cp:lastModifiedBy>Your User Name</cp:lastModifiedBy>
  <dcterms:modified xsi:type="dcterms:W3CDTF">2012-04-11T21:08:41Z</dcterms:modified>
  <cp:revision>126</cp:revision>
  <dc:subject/>
  <dc:title>The Impact of Exchange Rate Volatility on Fragmentation: Evidence from US Auto Parts Industry</dc:title>
</cp:coreProperties>
</file>