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21C-8E83-4136-A477-0BF3011C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3B0-F952-410C-B80A-DB22678F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30E-6B8D-4FDB-966F-9BE71B4F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756-CE04-4027-ABA8-39F9293E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85E-4CAF-4678-8C35-E0EFAE01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F27-40FB-4AD4-9F8A-107FC62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CFB-428E-4FBC-A07C-CB72118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E57-6247-4A54-B190-3965082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2CE-9087-4FDA-B089-66EFF54D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C5F-C44C-4015-B33F-6EBF2FD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F91-2962-424F-BB98-C94757E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ACA-54CF-4FAF-848A-712C8A7B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FD99-C9C0-4DC8-A5BB-C73EA432BF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e Ruble between the hammer and the anvil: Oil prices and economic sanc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5445000"/>
            <a:ext cx="640080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hristian Dreger, DIW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integr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268280"/>
          <a:ext cx="8496000" cy="914400"/>
        </p:xfrm>
        <a:graphic>
          <a:graphicData uri="http://schemas.openxmlformats.org/drawingml/2006/table">
            <a:tbl>
              <a:tblPr/>
              <a:tblGrid>
                <a:gridCol w="849240"/>
                <a:gridCol w="1557360"/>
                <a:gridCol w="1557360"/>
                <a:gridCol w="1701720"/>
                <a:gridCol w="1415880"/>
                <a:gridCol w="1414440"/>
              </a:tblGrid>
              <a:tr h="520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85 (0.0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.08 (0.5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40 (0.8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8 (0.8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1 (0.36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24000" y="2349360"/>
          <a:ext cx="8496000" cy="4175280"/>
        </p:xfrm>
        <a:graphic>
          <a:graphicData uri="http://schemas.openxmlformats.org/drawingml/2006/table">
            <a:tbl>
              <a:tblPr/>
              <a:tblGrid>
                <a:gridCol w="1871640"/>
                <a:gridCol w="1655640"/>
                <a:gridCol w="1657440"/>
                <a:gridCol w="1582560"/>
                <a:gridCol w="1728720"/>
              </a:tblGrid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restricted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tricted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49 (0.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45 (0.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i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53 (0.2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2 (0.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37 (0.2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2 (0.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03 (0.29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9 (0.0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15 (0.2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tions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 (0.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79 (0.24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 (0.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tions Ru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8 (0.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95 (0.2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9 (0.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mpulse 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0" r="29876" b="31980"/>
          <a:stretch/>
        </p:blipFill>
        <p:spPr>
          <a:xfrm>
            <a:off x="108000" y="1197000"/>
            <a:ext cx="8813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integrated VAR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integration vector is unique, interpreted as Ruble equation (weak exogene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neralized impulse responses reveal that oil price is most relev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ll responses show the expected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mpact of sanctions on Ruble can be negl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nctions interrelated, Russian response affected by Western sanctions, but escalation spiral not vis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sults confirmed by decomposition of variance of forecast err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ultivariate GARCH for VAR err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484280"/>
          <a:ext cx="8569440" cy="4897440"/>
        </p:xfrm>
        <a:graphic>
          <a:graphicData uri="http://schemas.openxmlformats.org/drawingml/2006/table">
            <a:tbl>
              <a:tblPr/>
              <a:tblGrid>
                <a:gridCol w="1152360"/>
                <a:gridCol w="1368720"/>
                <a:gridCol w="1368360"/>
                <a:gridCol w="1366920"/>
                <a:gridCol w="1728720"/>
                <a:gridCol w="1584360"/>
              </a:tblGrid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O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 W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 Russ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a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2 (0.0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1 (0.0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 (0.04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0 (0.06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0 (0.0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RCH La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22 (0.01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6 (0.02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47 (0.04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33 (0.03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35 (0.02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CH La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38 (0.0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09 (0.04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84 (0.05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84 (0.0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99 (0.08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9 (0.00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27 (0.08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1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8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54 (0.16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67 (0.11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4 (0.02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4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35 (0.16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37 (0.08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4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16 (0.10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3 (0.02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71 (0.12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3 (0.02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ulk of Ruble depreciation caused by oil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nctions not important for the development of the R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anticipated sanctions increase volatility in international commodity (oil)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an harm economic growth, policies should be as transparent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dia reports are partially self fulfi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f stronger sanctions are expected, policymakers become less reluctant to further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dea of the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mpact of sanctions on Russian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mplemented because of conflict with Ukr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riving forces of Ruble 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ue to quarterly frequency of national accounts only a few data points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uble of key relevance for Russian economy, is available at high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ussia heavily depends on natural res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 addition to sanctions, oil prices might explain the Rubl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uble exchange 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kt 4"/>
          <p:cNvGraphicFramePr/>
          <p:nvPr/>
        </p:nvGraphicFramePr>
        <p:xfrm>
          <a:off x="468360" y="1700280"/>
          <a:ext cx="83516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351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479880" y="1268280"/>
            <a:ext cx="282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Arial"/>
              </a:rPr>
              <a:t>Per USD (line) and eu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il price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Diagramm 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asuring sa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strength of sa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uspension of international talks, restrictions to individuals and companies, sanctions to industrial s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mposite sanction index constructed by adding (0.1) dummies for individual sa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dicator unweighted or weigh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ights control for strength of sanctions and trade shares of countries with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dicators for Western and Russian sa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Economic sa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kt 4"/>
          <p:cNvGraphicFramePr/>
          <p:nvPr/>
        </p:nvGraphicFramePr>
        <p:xfrm>
          <a:off x="611280" y="1844640"/>
          <a:ext cx="806436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8064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"/>
          <p:cNvSpPr/>
          <p:nvPr/>
        </p:nvSpPr>
        <p:spPr>
          <a:xfrm>
            <a:off x="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6"/>
          <p:cNvSpPr/>
          <p:nvPr/>
        </p:nvSpPr>
        <p:spPr>
          <a:xfrm>
            <a:off x="740880" y="1341360"/>
            <a:ext cx="381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Arial"/>
              </a:rPr>
              <a:t>Unweigthed (line) and we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anctions and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ions complemented by news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nctions discussed by media even before they are implemented, impact on exchang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arch for keywords in international 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ews of eight countries, including US and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aily occurences of „Russia“ and „sanction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dex equal to 0 before Crimea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anticipated component of sa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iduals from regression of news on leads of sanctions, is bias introduced by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dia indic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Design of th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ries from Jan, 1, 2014, 1 to March, 31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uble exchange rate, Ruonia interest rate, oil price, Western and Russian sanctions, unexpected component of sa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ussian banks intervened in the foreign exchange market to stabilize the R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ariables nonstationary, except of unanticipated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integrated VAR model for variables in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ltivariate GARCH for the conditional variance of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2T11:03:29Z</dcterms:created>
  <dc:creator>Christian Dreger</dc:creator>
  <dc:description/>
  <dc:language>en-US</dc:language>
  <cp:lastModifiedBy>Christian Dreger</cp:lastModifiedBy>
  <dcterms:modified xsi:type="dcterms:W3CDTF">2015-07-12T18:22:12Z</dcterms:modified>
  <cp:revision>23</cp:revision>
  <dc:subject/>
  <dc:title>The Ruble between the hammer and the anvil: Oil prices and economic sanctions</dc:title>
</cp:coreProperties>
</file>